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09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B013E-0B48-4076-BBAC-44D6CB6B00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E73A6-EE5B-419C-B142-49B3E01E45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8FF6B-3260-4E47-8E8E-DF294CDD03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826AD-7F6A-48E2-A784-F00F7C3AC5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5FE1A-1028-4BC2-A90E-58648A33E8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95398-A7BA-4CE8-82A5-FBCB6889B1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112A0-F384-45EC-986A-CAB8033E38C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6D48C-0006-4A46-A2D7-0429AD3D65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A2AF2-76D0-4504-A38B-E339C6E33A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3592C-34C8-4CEE-BCF2-CAF20DDF1A5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8179F-729A-4AC2-A3E5-622A9AA617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A199C-ED4A-4CE9-B96E-4A5A88EE86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C566-83B7-4BCC-9A01-290D370E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972F-AF60-4CBA-8797-C1304A51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FD38-F865-4D14-82AF-564A6772CE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554C-E97C-4976-BFE7-D1F65096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47E5-C17B-4D3C-B5C5-F3148E3E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412C-6EA6-4596-9160-C81A11AB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8F00-4211-4F9E-91A1-4BBA7564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11EA-DF77-408C-8C5E-1A82869A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6D92-A948-4670-B666-BAD1BC50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AD54-53FB-49AF-9A6F-9960BA67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6973-8A66-4B52-AA2D-389ECC6E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2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8BA4F3-CE20-4D9B-A1AD-6B8597FAEB8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71640" y="1461960"/>
            <a:ext cx="40320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 una entomóloga y botánica nacida en Nueva York en 183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só la mayor parte de su vida en Vineland, New Jers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16, volvió a Nueva York para vivir con su hermana. Murió en 1923, a los 92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6920" y="836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Biografía br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771640" y="571176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York, ciudad natal de Mary Davis Tre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5111640" y="828720"/>
            <a:ext cx="34196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867280" y="1440000"/>
            <a:ext cx="3240360" cy="39589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71640" y="1461960"/>
            <a:ext cx="49687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endió la teoría de la evolución de Darwin, quien a su vez alabó los trabajos de Mary Davis Treat. A pesar de dichas alabanzas, no fue reconocida por la comunidad científica, debido tan solo al hecho de ser muj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primeras publicaciones fueron detalladas descripciones de ciclos vitales de insec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de 1969 publicó 76 artículos y 5 lib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investigaciones ayudaron a muchos entomólogos a clasificar los insectos. Ella misma descubrió varias especies de insectos, arácnidos y plan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hormig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phanogaster treatia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marili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Zephyranthus treatia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cibier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ombre específico en su hon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71640" y="765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ortaciones científ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940360" y="5400720"/>
            <a:ext cx="29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rles Darwin, uno de los científicos del siglo XIX que fue capaz de apreciar el trabajo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Mary Davis Tre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71640" y="1461960"/>
            <a:ext cx="460836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o de sus más famosos trabajos fu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e realizó con larvas de mariposa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peci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pilio aster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ubrió que las larvas que comía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bundancia se desarrollaban como hembras, mientras que las que comían poco, lo hacían como ma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stigó con otras especies de mariposa y obtuvo resultados simila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rwin afirmó que sus investigaciones con las mariposas eran las mejores realizadas hasta entonces. Esto la ayudó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obtener el mérito que merecía y que tantas veces se le negó por sexism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incipales descubr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5940360" y="4932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iposa del género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apilio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milar a las que investigó Mary Davi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1916280"/>
            <a:ext cx="748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fueron los primeros trabajos científicos de Mary Davis Trea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Por qué conocido científico fueron reconocida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aportaciones de esta mujer a la 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fueron sus trabajos más notab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71640" y="1052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ctiv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6:17Z</dcterms:modified>
  <cp:revision>48</cp:revision>
  <dc:subject/>
  <dc:title>Diapositiva 1</dc:title>
</cp:coreProperties>
</file>